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4CD-3E9A-4C5F-9FF7-F36C8F98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FAD-3EEF-4DAC-AE88-03E17E8F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8B0-968C-4891-BB39-4647F689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9EE-2625-438B-B12F-4BB5A2C8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387F-D343-4429-9EDF-6226C93F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E54F-03FC-4067-9964-5CC762E6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A17D-8246-46D9-96A7-D94C8F93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724-40E5-4C8E-B173-9F2E7B01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C6D0-717E-477C-93A3-74AEF25A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F77B-67E3-4A24-AA1A-FB5F3CC4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3193-7166-4C3B-B72D-F9427962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311-BC41-4B76-8DE5-EA28B440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FA46-3910-4C85-8C58-CE48ACD3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BCB4-BA16-4BAB-AD5B-8F42482F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33CD-2D6D-40A0-B84D-45BC4598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485F-C4AA-4777-AA6F-22670B73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42A8-41AD-45DE-86BA-D8F13E83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5F4-F21B-4786-85F2-EC874A15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386-5157-4E3E-8EDE-36F1DDB1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19B-A6A3-41D0-91F7-E8BDE6AB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94D-C7EC-4C8B-B40E-59FEFD70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7EF-A780-424E-AC1E-484A8533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53E-C704-4C73-8945-46658D4C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DE8-2292-4487-ACE2-45E0990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FDA0-1309-4A21-AD1C-702610BCBACD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EB82-0B4F-45AE-9F10-64291C4F00B7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Hot Topics in Agri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Brussels, 12 to 14 July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upport to the agriculture sector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has a Ministry of ASAL (for Northern Kenya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your partners (not just Min of Agric!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Understand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llect (jointly) information for evidence-based plan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donor coordination around the issue of  support to pastoralist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to pastoralism to be included in NIPs, CSP, sector assessments, SPSPs et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appropriate EC instruments and mechanis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inancial modalities (e.g. specific proceedures instead of budget support) or thematic budget line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unity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Generate information – for policy, but also self-im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ottom up organisation and mobilis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representation skills (lobbying, advocacy, negoti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 capacity and confidence (literac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and strengthen pastoral forums that make a link from local to national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free information flow (radio and mobile phone coverag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education and training tailored to pastoralists bith in delivery and cont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mali – teachers move with the group and the her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Group Work Farmer Organisation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773000"/>
            <a:ext cx="82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Divide into groups. For each group discuss the following: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What are the </a:t>
            </a:r>
            <a:r>
              <a:rPr b="1" lang="en-GB" sz="2200" spc="-1" strike="noStrike">
                <a:solidFill>
                  <a:srgbClr val="193400"/>
                </a:solidFill>
                <a:latin typeface="Verdana"/>
              </a:rPr>
              <a:t>Do’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and </a:t>
            </a:r>
            <a:r>
              <a:rPr b="1" lang="en-GB" sz="2200" spc="-1" strike="noStrike">
                <a:solidFill>
                  <a:srgbClr val="800000"/>
                </a:solidFill>
                <a:latin typeface="Verdana"/>
              </a:rPr>
              <a:t>Don’t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in supporting FO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For a country of your choice: What are specific </a:t>
            </a:r>
            <a:r>
              <a:rPr b="1" lang="en-GB" sz="2200" spc="-1" strike="noStrike">
                <a:solidFill>
                  <a:srgbClr val="800000"/>
                </a:solidFill>
                <a:latin typeface="Verdana"/>
              </a:rPr>
              <a:t>Issue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and </a:t>
            </a:r>
            <a:r>
              <a:rPr b="1" lang="en-GB" sz="2200" spc="-1" strike="noStrike">
                <a:solidFill>
                  <a:srgbClr val="193400"/>
                </a:solidFill>
                <a:latin typeface="Verdana"/>
              </a:rPr>
              <a:t>Response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in strengthening and supporting FO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Question for Plenary: What can you do (as EC officer in the Delegation) to improve the support to FO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What is this seminar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Verdana"/>
              </a:rPr>
              <a:t>A flexible platform of exchange in order to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rovide EC staff working in the sector with a greater understanding of the current issues in agriculture with a focus on how to make this development most effective in reducing (rural) poverty..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o that participants to become more effective contributors to and supporters of agriculture for the po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What does the seminar want to achieve?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By the end of the seminar, participants should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 informed about key issues and latest thinking in agricultural policy and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ave acquired an analytical framework on these issues to guide further learning and inform future wor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2667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What does the seminar cover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0280">
              <a:lnSpc>
                <a:spcPct val="2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03c72"/>
                </a:solidFill>
                <a:latin typeface="Verdana"/>
              </a:rPr>
              <a:t>Not everything -  But a selection of issues of current concern that the EC has something to say abou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712800" indent="-530280">
              <a:lnSpc>
                <a:spcPct val="2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03c72"/>
                </a:solidFill>
                <a:latin typeface="Verdana"/>
              </a:rPr>
              <a:t>This is NOT a training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–</a:t>
            </a:r>
            <a:r>
              <a:rPr b="0" lang="nl-BE" sz="2000" spc="-1" strike="noStrike">
                <a:solidFill>
                  <a:srgbClr val="103c72"/>
                </a:solidFill>
                <a:latin typeface="Verdana"/>
              </a:rPr>
              <a:t> no guidelines !!!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274760" indent="-530280">
              <a:lnSpc>
                <a:spcPct val="2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0000"/>
                </a:solidFill>
                <a:latin typeface="Verdana"/>
              </a:rPr>
              <a:t>Exchange !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1274760" indent="-530280">
              <a:lnSpc>
                <a:spcPct val="2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0000"/>
                </a:solidFill>
                <a:latin typeface="Verdana"/>
              </a:rPr>
              <a:t>Feedback !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Programme outli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447920"/>
          <a:ext cx="7696080" cy="4622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day 12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uesday 1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dnesday 14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Expectation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3. Agriculture Growth and Social Transfer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5. Climate Change and Agricultur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1. Setting the Scen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Bangladesh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GCCA –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Field example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2. Pastoralism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4. Supporting FO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West Africa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6. Extensio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Best practice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- Mongolia, Sudan, Somaliland -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rebuchet MS"/>
                        </a:rPr>
                        <a:t>Group Work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Ivory Coas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rebuchet MS"/>
                        </a:rPr>
                        <a:t>Group Work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7. Capacity4dev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rebuchet MS"/>
                        </a:rPr>
                        <a:t>Group Work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A new perspective on peasants/smallholders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van der Ploe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 holistic approach based on livelihoods as opposed to production syste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ich self-suffiency, autonomy, pride play a big ro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...produces for the market without being dependent on the market”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alance in production between ‘for the market’ and ‘for self’ provides protection against market turbulenc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avoid one dimensional focus on commercialisation (as in “farming as a business, not a way of life!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ut instead focus on multi-functionality, low external input agriculture, pluri-activity, local cooperation, technical effici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Verdana"/>
              </a:rPr>
              <a:t>Agriculture as an awkward sector </a:t>
            </a:r>
            <a:r>
              <a:rPr b="0" i="1" lang="en-US" sz="1800" spc="-1" strike="noStrike">
                <a:solidFill>
                  <a:srgbClr val="103c72"/>
                </a:solidFill>
                <a:latin typeface="Verdana"/>
              </a:rPr>
              <a:t>by Steve Wigg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griculture crucial to poverty reduction because of increased incomes, increased employment, growth in local economy and reduced food pr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here are African agricultural successes! (Ghana, Burkina Faso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ood policy is key – good governance a pre-requisit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Distinguish between simple and complex and between policy and implementation (programme)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ook at sequencing – depending on departure point / target group: step up – step out – hang i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Among the ultra-poor – invest education/health in the next gener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astoralism: issues and challenges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Michele Nor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 Boran in Northern Kenya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Daoud Tari Abkul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olicy level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the role of pastoralists (environmental profil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clude pastoralist organisations in the policy dialogu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oran became thematic group in PRSP dialogue in Keny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nsure that pastoralism is included in the policy and legal framework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n PRSP now has separate chapter on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conomic policy has a Arid and Semi Arid Lands chapt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ainstream pastoralism in the overall sector policy framework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now has Nomadic Education Poli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05:16:04Z</dcterms:created>
  <dc:creator>monacro</dc:creator>
  <dc:description/>
  <dc:language>en-US</dc:language>
  <cp:lastModifiedBy>x55b078</cp:lastModifiedBy>
  <dcterms:modified xsi:type="dcterms:W3CDTF">2010-07-13T11:18:42Z</dcterms:modified>
  <cp:revision>9</cp:revision>
  <dc:subject/>
  <dc:title>Slide 1</dc:title>
</cp:coreProperties>
</file>